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9B7A-287E-4715-80F0-594BE29CE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FBCE-6690-488C-8B60-197556765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1E2D6B3A-26A5-4A4C-8790-3F2692B5B773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ome Effects of Alternative Inventory Costing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and Absorption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8440" y="1203480"/>
            <a:ext cx="8145720" cy="50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theoretical capacity or practical capacity as the denominator reduces the amount of fixed manufacturing overhead assigned to inventory and increases the 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ada Customs and Revenue Agency (CCRA) does not allow the use of theoretical or practical capacity in determining taxable incom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ich denominator to use keep in mind that the resultant cost information will be used for product costing and capacity management, pricing, performance evaluation, and foreca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orp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full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and fixed productio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function of sal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4038480"/>
            <a:ext cx="403848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ufactur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direc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behavi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production costs on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a function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733920"/>
            <a:ext cx="388620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ing the Two Income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355400"/>
            <a:ext cx="800100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in net income between a variable costing income statement and an absorption costing income statement is due to the treatment of fixed manufactur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 period cost under variab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n inventoriable (product) cost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he Two Income Statements Diff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362320"/>
            <a:ext cx="2666880" cy="3568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2362320"/>
            <a:ext cx="2743200" cy="345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120" y="3124080"/>
            <a:ext cx="3277080" cy="1604880"/>
            <a:chOff x="2895120" y="3124080"/>
            <a:chExt cx="3277080" cy="1604880"/>
          </a:xfrm>
        </p:grpSpPr>
        <p:sp>
          <p:nvSpPr>
            <p:cNvPr id="66" name=""/>
            <p:cNvSpPr/>
            <p:nvPr/>
          </p:nvSpPr>
          <p:spPr>
            <a:xfrm>
              <a:off x="3429000" y="3171960"/>
              <a:ext cx="23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Fix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Manufactur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Overhea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895120" y="4648320"/>
              <a:ext cx="83844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0080" y="3124080"/>
              <a:ext cx="7621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ing Between the Two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operating income - absorption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in ending inventory - fixed manufacturing costs in beginn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 x $16) - (0 x $16)  =  $3,2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9 - 32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89548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Units produced - units sold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 - 400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5720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Ending inventory units - Beginning inventory units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units - 0 units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 Evaluation – Absor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of the problems with absorption costing that managers can increase operating income in the short run by increasing production independent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additional units produced absorb some of the fixed costs which are carried forward on the balance sheet rather than being expensed on the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refo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refully monitor inventory leve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a charge for the amount of inventory carried (1% x value of inventory on han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aluate performance over longer period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1 - 3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oughput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sting (or super-variable costing) treats all costs except those related to variable direct materials as costs of the period in which they we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variable direct material costs are invento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ce all other production-related costs are expensed on the income statement, management is less motivated to increase inventories (shifting costs from the income statement to the balance she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ing inventory levels means less funds are tied up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5 - 3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Concep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85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different numbers can be used as “capacity”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209680"/>
            <a:ext cx="4876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etical capacity – ideal situation with 100% efficienc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al capacity – recognize that some downtime is unavoid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apacity – the average output level over a 2-3 year perio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apacity – expected output for the next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2438280"/>
            <a:ext cx="3276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,152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7:11:01Z</dcterms:created>
  <dc:creator>User</dc:creator>
  <dc:description/>
  <dc:language>en-US</dc:language>
  <cp:lastModifiedBy>John Moore</cp:lastModifiedBy>
  <cp:lastPrinted>1999-06-03T17:40:12Z</cp:lastPrinted>
  <dcterms:modified xsi:type="dcterms:W3CDTF">2003-03-22T13:13:17Z</dcterms:modified>
  <cp:revision>10</cp:revision>
  <dc:subject/>
  <dc:title>No Slide Title</dc:title>
</cp:coreProperties>
</file>